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35D-944A-4CCE-B608-A84162B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6E5-F6BE-4C7D-A609-99FE2213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406-6687-4E32-9715-3B51B71B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A4D-1451-41E6-817E-1620B78C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6A95-F177-49E3-8624-FB200901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FF52-C9CC-4A3B-9980-35B424B0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EEC4-7A50-4274-BFF6-881EEEB0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B89A9-733B-49AF-96EB-5729D8D5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A188-4B9B-4AE8-A0BB-4D17F477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4E50-6D26-4226-971D-EDE60A48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1B55-618E-45DB-A79F-F219B316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5A4-3DE0-4532-BE30-46E785B8C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CC47-26F0-4690-A2D7-51DE3EFC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B472-E65A-4D9B-B7F9-0340C1F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A676-E105-4213-B3E9-30707DC9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3376-AFEA-4082-9620-FA9AD00B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AA60-41BC-4790-B077-B1EA353D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95C-6AE7-4EA3-8BD8-EDB99AF4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D9C-638F-442C-875E-A2917A43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5A20-42B6-4DF7-A627-97D17E4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79F4-91B2-4477-9C3A-0F37A1E7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A46-F154-4A42-8D01-434142E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674-88AD-4B03-A9EF-7E907884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B2E-8DF7-4CEB-8055-2A2C23E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C40E-A01D-4C4C-8D0D-9800804803A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E984-8F50-413E-9DF2-8F592B896B1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y 2005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ming so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erkeleyDB backen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’s template system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nit test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VS Issue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emplate version on CVS HEA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Basic functionality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y advanced features not work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ug fixes on 1.62-bugfixes bran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commended for end user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ill become 1.63 RS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431360" y="1828800"/>
            <a:ext cx="288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mon Ilyusch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Lalitha Krishn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70640" y="4114800"/>
            <a:ext cx="152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UC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Allen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1880" y="182880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Recent Improv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rder of sections reorganiz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oup tracks by category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xpand/contract categori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lace plugins in menuba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nternal changes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Libraries refactored; easier to manage plugins, upload tracks, DAS tracks, improved Chado interface, GFF3 loading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228600" y="1609560"/>
            <a:ext cx="8915400" cy="5248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ollapsible Sectio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410" t="14877" r="3433" b="5502"/>
          <a:stretch/>
        </p:blipFill>
        <p:spPr>
          <a:xfrm>
            <a:off x="304920" y="1654200"/>
            <a:ext cx="8839080" cy="52038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roupable Track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228600" y="1523880"/>
            <a:ext cx="8763120" cy="516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enuable Plugin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386" t="14818" r="3447" b="5556"/>
          <a:stretch/>
        </p:blipFill>
        <p:spPr>
          <a:xfrm>
            <a:off x="304920" y="1600200"/>
            <a:ext cx="8839080" cy="520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66880" y="2057400"/>
            <a:ext cx="2286000" cy="533520"/>
          </a:xfrm>
          <a:prstGeom prst="ellipse">
            <a:avLst/>
          </a:prstGeom>
          <a:noFill/>
          <a:ln w="12600">
            <a:solidFill>
              <a:srgbClr val="d57a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More Glyph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557" t="14814" r="3644" b="3701"/>
          <a:stretch/>
        </p:blipFill>
        <p:spPr>
          <a:xfrm>
            <a:off x="533520" y="1523880"/>
            <a:ext cx="8381880" cy="519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6T18:46:05Z</dcterms:modified>
  <cp:revision>560</cp:revision>
  <dc:subject/>
  <dc:title>Training</dc:title>
</cp:coreProperties>
</file>